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1.gif" ContentType="image/gif"/>
  <Override PartName="/ppt/media/image10.jpeg" ContentType="image/jpeg"/>
  <Override PartName="/ppt/media/image2.gif" ContentType="image/gif"/>
  <Override PartName="/ppt/media/image6.gif" ContentType="image/gif"/>
  <Override PartName="/ppt/media/image5.gif" ContentType="image/gif"/>
  <Override PartName="/ppt/media/image13.gif" ContentType="image/gif"/>
  <Override PartName="/ppt/media/image8.gif" ContentType="image/gif"/>
  <Override PartName="/ppt/media/image4.jpeg" ContentType="image/jpeg"/>
  <Override PartName="/ppt/media/image25.jpeg" ContentType="image/jpeg"/>
  <Override PartName="/ppt/media/image3.gif" ContentType="image/gif"/>
  <Override PartName="/ppt/media/image12.jpeg" ContentType="image/jpeg"/>
  <Override PartName="/ppt/media/image24.gif" ContentType="image/gif"/>
  <Override PartName="/ppt/media/image21.gif" ContentType="image/gif"/>
  <Override PartName="/ppt/media/image19.jpeg" ContentType="image/jpeg"/>
  <Override PartName="/ppt/media/image20.gif" ContentType="image/gif"/>
  <Override PartName="/ppt/media/image18.gif" ContentType="image/gif"/>
  <Override PartName="/ppt/media/image2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6.gif" ContentType="image/gif"/>
  <Override PartName="/ppt/media/image15.jpeg" ContentType="image/jpeg"/>
  <Override PartName="/ppt/media/image14.gif" ContentType="image/gi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E3E1-AA82-4F2B-8939-E51829496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041A-A4FC-4DDC-A477-E66E0DC9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BD39-C656-4D78-9736-9BAB021CC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7F39-EBF8-4E68-8D3C-AF2F5E738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DDA7-C609-42E1-9D40-B59910F4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D7AA-8904-4AAF-A1B9-A253D9B0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DFC0-F094-4C9A-86BD-D9CDCC8B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D530-78FE-4E61-9061-01BB045C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E9BE-9348-49BB-9A77-08876029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6A75-F7FC-470F-BC18-A5173578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343A-D280-4EA9-90A9-B814766C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1C19-43C0-45C6-834E-FF86E614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12FC-DE85-4D89-BED4-F1936BBF2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84000" y="259920"/>
            <a:ext cx="54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Forte"/>
              </a:rPr>
              <a:t>Я  ТЕБЯ  ЛЮБЛЮ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8920" y="2852280"/>
            <a:ext cx="3822840" cy="38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"/>
              </a:rPr>
              <a:t>Если бы Бог спросил меня, кем я хочу быть,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comic"/>
              </a:rPr>
              <a:t> я бы ответила, что хочу быть слезою: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comic"/>
              </a:rPr>
              <a:t> дотронуться до твоей кожи,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comic"/>
              </a:rPr>
              <a:t>скользнуть по твоей щеке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comic"/>
              </a:rPr>
              <a:t> и умереть на твоих губах!</a:t>
            </a:r>
            <a:r>
              <a:rPr b="0" i="1" lang="it-IT" sz="2400" spc="-1" strike="noStrike">
                <a:solidFill>
                  <a:srgbClr val="ffffff"/>
                </a:solidFill>
                <a:latin typeface="com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372360" y="4281480"/>
            <a:ext cx="2447640" cy="244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940360" y="1773360"/>
            <a:ext cx="300852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ля  мира  —  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ТО-ТО..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А  для  меня  — 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ел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!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1906560" cy="218592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428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omic"/>
              </a:rPr>
              <a:t>TI AM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5516640"/>
            <a:ext cx="1547640" cy="1341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8229600" y="404640"/>
            <a:ext cx="914400" cy="76212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443280" y="1557000"/>
            <a:ext cx="27003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ccff"/>
                </a:solidFill>
                <a:latin typeface="Eras Bold ITC"/>
              </a:rPr>
              <a:t>Твое имя шепчет музыку дожд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ccff"/>
                </a:solidFill>
                <a:latin typeface="Eras Bold ITC"/>
              </a:rPr>
              <a:t>Твое им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ccff"/>
                </a:solidFill>
                <a:latin typeface="Eras Bold ITC"/>
              </a:rPr>
              <a:t>небо каплями роня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ccff"/>
                </a:solidFill>
                <a:latin typeface="Eras Bold ITC"/>
              </a:rPr>
              <a:t>Только неб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ccff"/>
                </a:solidFill>
                <a:latin typeface="Eras Bold ITC"/>
              </a:rPr>
              <a:t>только дождик поним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ccff"/>
                </a:solidFill>
                <a:latin typeface="Eras Bold ITC"/>
              </a:rPr>
              <a:t>Как скуч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ccff"/>
                </a:solidFill>
                <a:latin typeface="Eras Bold ITC"/>
              </a:rPr>
              <a:t>мое сердц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ccff"/>
                </a:solidFill>
                <a:latin typeface="Eras Bold ITC"/>
              </a:rPr>
              <a:t>без тебя!</a:t>
            </a:r>
            <a:r>
              <a:rPr b="1" i="1" lang="it-IT" sz="2000" spc="-1" strike="noStrike">
                <a:solidFill>
                  <a:srgbClr val="33ccff"/>
                </a:solidFill>
                <a:latin typeface="Eras Bold IT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244000" y="4581360"/>
            <a:ext cx="601560" cy="2113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79280" y="-120600"/>
            <a:ext cx="3097440" cy="3097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140360" y="3141720"/>
            <a:ext cx="2427120" cy="2427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0" y="2924280"/>
            <a:ext cx="2427120" cy="242712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7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7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00"/>
                </a:solidFill>
                <a:latin typeface="Eras Bold ITC"/>
              </a:rPr>
              <a:t>скуча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84720" y="836640"/>
            <a:ext cx="30592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Forte"/>
              </a:rPr>
              <a:t>Я скучаю, безумно скучаю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Forte"/>
              </a:rPr>
              <a:t>По твоим светло-синим глазам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Forte"/>
              </a:rPr>
              <a:t>Их томяще - бездонному раю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Forte"/>
              </a:rPr>
              <a:t>Их непознанным мной чудесам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Forte"/>
              </a:rPr>
              <a:t>Я безумно скучаю по свету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Forte"/>
              </a:rPr>
              <a:t>Наполнявшему их изнутри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Forte"/>
              </a:rPr>
              <a:t>Оживившему эту планету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Forte"/>
              </a:rPr>
              <a:t>Отражавшему пламя любви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Forte"/>
              </a:rPr>
              <a:t>Я не думала прежде, что можн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Forte"/>
              </a:rPr>
              <a:t>Так безумно, так сильно скучать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Forte"/>
              </a:rPr>
              <a:t>Так бессмысленно, так безнадежн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Forte"/>
              </a:rPr>
              <a:t>Захлебнувшись слезами, кричать..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Fort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124000" y="3500280"/>
            <a:ext cx="1047960" cy="87660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ff3300"/>
                </a:solidFill>
                <a:latin typeface="Forte"/>
              </a:rPr>
              <a:t>ВСЕГДА  ДУМАЮ О ТЕБ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Спасибо за т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что ты есть</a:t>
            </a:r>
            <a:br>
              <a:rPr sz="2400"/>
            </a:b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За т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что твой голос весенний</a:t>
            </a:r>
            <a:br>
              <a:rPr sz="2400"/>
            </a:b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Приходи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как добрая весть</a:t>
            </a:r>
            <a:br>
              <a:rPr sz="2400"/>
            </a:b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В минуты обид и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сомнений.</a:t>
            </a:r>
            <a:br>
              <a:rPr sz="2400"/>
            </a:b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Спасибо за искренний взгляд</a:t>
            </a:r>
            <a:br>
              <a:rPr sz="2400"/>
            </a:b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О чем бы тебя не спросила</a:t>
            </a:r>
            <a:br>
              <a:rPr sz="2400"/>
            </a:b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Во мне твои боли болят</a:t>
            </a:r>
            <a:br>
              <a:rPr sz="2400"/>
            </a:b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В тебе мои копятся сил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740720" y="1268280"/>
            <a:ext cx="1133280" cy="1009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8010360" y="5848200"/>
            <a:ext cx="1133640" cy="1009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179280" y="1052640"/>
            <a:ext cx="1133640" cy="1009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0" y="3581280"/>
            <a:ext cx="3495600" cy="327672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500"/>
                            </p:stCondLst>
                            <p:childTnLst>
                              <p:par>
                                <p:cTn id="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cc"/>
                </a:solidFill>
                <a:latin typeface="Paris"/>
              </a:rPr>
              <a:t>ЛЮБЛЮ,СКУЧАЮ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5128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60093"/>
                </a:solidFill>
                <a:latin typeface="Arial"/>
              </a:rPr>
              <a:t>Хочу кричать на всю планету, </a:t>
            </a:r>
            <a:br>
              <a:rPr sz="2000"/>
            </a:br>
            <a:r>
              <a:rPr b="1" i="1" lang="ru-RU" sz="2000" spc="-1" strike="noStrike">
                <a:solidFill>
                  <a:srgbClr val="d60093"/>
                </a:solidFill>
                <a:latin typeface="Arial"/>
              </a:rPr>
              <a:t>О том, что я люблю тебя! </a:t>
            </a:r>
            <a:br>
              <a:rPr sz="2000"/>
            </a:br>
            <a:r>
              <a:rPr b="1" i="1" lang="ru-RU" sz="2000" spc="-1" strike="noStrike">
                <a:solidFill>
                  <a:srgbClr val="d60093"/>
                </a:solidFill>
                <a:latin typeface="Arial"/>
              </a:rPr>
              <a:t>Любимей человека нету, </a:t>
            </a:r>
            <a:br>
              <a:rPr sz="2000"/>
            </a:br>
            <a:r>
              <a:rPr b="1" i="1" lang="ru-RU" sz="2000" spc="-1" strike="noStrike">
                <a:solidFill>
                  <a:srgbClr val="d60093"/>
                </a:solidFill>
                <a:latin typeface="Arial"/>
              </a:rPr>
              <a:t>Душой всегда с тобою я! 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d60093"/>
                </a:solidFill>
                <a:latin typeface="Arial"/>
              </a:rPr>
              <a:t>Душа моя кричит и плачет, </a:t>
            </a:r>
            <a:br>
              <a:rPr sz="2000"/>
            </a:br>
            <a:r>
              <a:rPr b="1" i="1" lang="ru-RU" sz="2000" spc="-1" strike="noStrike">
                <a:solidFill>
                  <a:srgbClr val="d60093"/>
                </a:solidFill>
                <a:latin typeface="Arial"/>
              </a:rPr>
              <a:t>Поскольку рядом нет тебя! </a:t>
            </a:r>
            <a:br>
              <a:rPr sz="2000"/>
            </a:br>
            <a:r>
              <a:rPr b="1" i="1" lang="ru-RU" sz="2000" spc="-1" strike="noStrike">
                <a:solidFill>
                  <a:srgbClr val="d60093"/>
                </a:solidFill>
                <a:latin typeface="Arial"/>
              </a:rPr>
              <a:t>Я буду ждать, нельзя иначе, </a:t>
            </a:r>
            <a:br>
              <a:rPr sz="2000"/>
            </a:br>
            <a:r>
              <a:rPr b="1" i="1" lang="ru-RU" sz="2000" spc="-1" strike="noStrike">
                <a:solidFill>
                  <a:srgbClr val="d60093"/>
                </a:solidFill>
                <a:latin typeface="Arial"/>
              </a:rPr>
              <a:t>Ты слишком дорог для меня! 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d60093"/>
                </a:solidFill>
                <a:latin typeface="Arial"/>
              </a:rPr>
              <a:t>Пусть долго ждать тебя придётся, </a:t>
            </a:r>
            <a:br>
              <a:rPr sz="2000"/>
            </a:br>
            <a:r>
              <a:rPr b="1" i="1" lang="ru-RU" sz="2000" spc="-1" strike="noStrike">
                <a:solidFill>
                  <a:srgbClr val="d60093"/>
                </a:solidFill>
                <a:latin typeface="Arial"/>
              </a:rPr>
              <a:t>Тебя не стану забывать! </a:t>
            </a:r>
            <a:br>
              <a:rPr sz="2000"/>
            </a:br>
            <a:r>
              <a:rPr b="1" i="1" lang="ru-RU" sz="2000" spc="-1" strike="noStrike">
                <a:solidFill>
                  <a:srgbClr val="d60093"/>
                </a:solidFill>
                <a:latin typeface="Arial"/>
              </a:rPr>
              <a:t>Сердечка в мире не найдётся, </a:t>
            </a:r>
            <a:br>
              <a:rPr sz="2000"/>
            </a:br>
            <a:r>
              <a:rPr b="1" i="1" lang="ru-RU" sz="2000" spc="-1" strike="noStrike">
                <a:solidFill>
                  <a:srgbClr val="d60093"/>
                </a:solidFill>
                <a:latin typeface="Arial"/>
              </a:rPr>
              <a:t>Что будет вечно тебя жда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50920" y="2708280"/>
            <a:ext cx="3044880" cy="353520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random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pperplate Gothic Bold"/>
              </a:rPr>
              <a:t>С нежностью и любовью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105520" y="1267920"/>
            <a:ext cx="40384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лед за днём приходит ноч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очу быть лишь с т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гкий ветер смоет грёз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ловно он жив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кеаном звёзд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ыли образ т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моих глаз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 мечтаю чтобы бы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месте мы на небеса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93840" y="1413000"/>
            <a:ext cx="3265200" cy="484812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random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059920"/>
            <a:ext cx="3851280" cy="44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Когда ты порою скучаеш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И горе тревожит теб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Ты вспомн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что в мире есть серд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it-IT" sz="3200" spc="-1" strike="noStrike">
                <a:solidFill>
                  <a:srgbClr val="cc0000"/>
                </a:solidFill>
                <a:latin typeface="Arial"/>
              </a:rPr>
              <a:t>Которое любит тебя!</a:t>
            </a:r>
            <a:r>
              <a:rPr b="0" i="1" lang="it-IT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780000" y="4829040"/>
            <a:ext cx="2162160" cy="2028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651640" y="95400"/>
            <a:ext cx="2952720" cy="222552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random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859280" y="1599840"/>
            <a:ext cx="4284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Я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хочу  тебя  встретить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хочу  понять.</a:t>
            </a:r>
            <a:br>
              <a:rPr sz="1400"/>
            </a:b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А может  что-то  поня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и  узнать?</a:t>
            </a:r>
            <a:br>
              <a:rPr sz="1400"/>
            </a:b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Мне  не  хватает  ТЕБ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твоих  слов,</a:t>
            </a:r>
            <a:br>
              <a:rPr sz="1400"/>
            </a:b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Твоей  улыбк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движени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шагов,</a:t>
            </a:r>
            <a:br>
              <a:rPr sz="1400"/>
            </a:b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Красоты  твоих  плеч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твоих  глаз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твоих  рук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Шепота  ласковых,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незабываемых  г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Прости  этот  бре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непонятно  кого,</a:t>
            </a:r>
            <a:br>
              <a:rPr sz="1400"/>
            </a:b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Просто  копилось  всё  эт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дав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2054160" cy="3357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8048520" y="5762520"/>
            <a:ext cx="1095480" cy="1095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800520" cy="81900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random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8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2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0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4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500"/>
                            </p:stCondLst>
                            <p:childTnLst>
                              <p:par>
                                <p:cTn id="17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8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2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500"/>
                            </p:stCondLst>
                            <p:childTnLst>
                              <p:par>
                                <p:cTn id="18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6" dur="5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0" dur="500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500"/>
                            </p:stCondLst>
                            <p:childTnLst>
                              <p:par>
                                <p:cTn id="19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4" dur="500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8" dur="500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7T20:59:45Z</dcterms:created>
  <dc:creator>alessia rabulets</dc:creator>
  <dc:description/>
  <dc:language>en-US</dc:language>
  <cp:lastModifiedBy>SEC</cp:lastModifiedBy>
  <dcterms:modified xsi:type="dcterms:W3CDTF">2005-07-17T20:30:38Z</dcterms:modified>
  <cp:revision>8</cp:revision>
  <dc:subject/>
  <dc:title>Я  ТЕБЯ  ЛЮБЛЮ!</dc:title>
</cp:coreProperties>
</file>