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19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F05-755D-4802-9832-7EB3D626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394-4AE0-4FD3-A249-C572B6D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087-4890-4A09-8058-EE61859B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692-7B0D-4C31-A8B7-A4042283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095-8ED7-4CF2-8E68-6383CDAF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10C-B8D1-48DF-9236-32AB682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2B2-47E5-4222-A794-302F55B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96F-5A7F-4C1A-A7FA-4DB3473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E04-080A-46CD-A823-C55B973C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AA1-F6D5-41F2-95D4-B1233CC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B9A-63A3-4F4D-8D89-FA14056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599-9DF3-4340-A9DA-2410167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15C-6A69-448A-ACF6-698A21EF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Forte"/>
              </a:rPr>
              <a:t>Я  ТЕБЯ  ЛЮБ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38228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Если бы Бог спросил меня, кем я хочу быть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я бы ответила, что хочу быть слезою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дотронуться до твоей кож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кользнуть по твоей щек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и умереть на твоих губах!</a:t>
            </a:r>
            <a:r>
              <a:rPr b="0" i="1" lang="it-IT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28148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1773360"/>
            <a:ext cx="3008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 мира  — 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-ТО..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 для  меня  —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!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906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TI A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54764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43280" y="1557000"/>
            <a:ext cx="270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шепчет музыку дожд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небо каплями р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не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дождик пони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Как ску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м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без тебя!</a:t>
            </a:r>
            <a:r>
              <a:rPr b="1" i="1" lang="it-IT" sz="2000" spc="-1" strike="noStrike">
                <a:solidFill>
                  <a:srgbClr val="33ccff"/>
                </a:solidFill>
                <a:latin typeface="Eras Bol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601560" cy="211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-1206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40360" y="31417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Eras Bold ITC"/>
              </a:rPr>
              <a:t>ску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84720" y="836640"/>
            <a:ext cx="305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скучаю, безумно скучаю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По твоим светло-синим глазам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томяще - бездонному ра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непознанным мной чудесам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безумно скучаю по св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Наполнявшему их изнутр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живившему эту план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тражавшему пламя любв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не думала прежде, что м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зумно, так сильно скуча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ссмысленно, так безнаде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Захлебнувшись слезами, кричать..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047960" cy="876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Forte"/>
              </a:rPr>
              <a:t>ВСЕГДА  ДУМАЮ О Т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ы 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вой голос весенний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При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как добрая в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минуты обид 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омнений.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искренний взгляд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О чем бы тебя не спросила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о мне твои боли болят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тебе мои копятся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10360" y="5848200"/>
            <a:ext cx="11336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4956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Paris"/>
              </a:rPr>
              <a:t>ЛЮБЛЮ,СКУЧАЮ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Хочу кричать на всю пла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О том, что я люблю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Любимей человека 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ой всегда с тобою 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а моя кричит и плачет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оскольку рядом нет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Я буду ждать, нельзя иначе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ы слишком дорог для мен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усть долго ждать тебя при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ебя не стану забывать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Сердечка в мире не най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Что будет вечно тебя жд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044880" cy="3535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pperplate Gothic Bold"/>
              </a:rPr>
              <a:t>С нежностью и люб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днём приходит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у быть лишь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ветер смоет г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он жи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еаном звёз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ыли образ 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их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ечтаю чтоб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мы на небес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3840" y="1413000"/>
            <a:ext cx="326520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9920"/>
            <a:ext cx="3851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огда ты порою скуча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горе тревожит т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вспом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что в мире есть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Которое любит тебя!</a:t>
            </a:r>
            <a:r>
              <a:rPr b="0" i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4829040"/>
            <a:ext cx="21621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95400"/>
            <a:ext cx="2952720" cy="22255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тебя  встрет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понять.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А может  что-то  по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и  узнать?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Мне  не  хватает  Т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сл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ей  улыб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аг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Красоты  твоих  пле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гл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р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епота  ласковых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забываемых 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и  этот  б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понятно  кого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о  копилось  всё 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а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054160" cy="335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0520" cy="819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20:59:45Z</dcterms:created>
  <dc:creator>alessia rabulets</dc:creator>
  <dc:description/>
  <dc:language>en-US</dc:language>
  <cp:lastModifiedBy>SEC</cp:lastModifiedBy>
  <dcterms:modified xsi:type="dcterms:W3CDTF">2005-07-17T20:30:38Z</dcterms:modified>
  <cp:revision>8</cp:revision>
  <dc:subject/>
  <dc:title>Я  ТЕБЯ  ЛЮБЛЮ!</dc:title>
</cp:coreProperties>
</file>